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dt" idx="28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ftr" idx="29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 type="sldNum" idx="30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C5AF3D-EC10-40EA-82D5-FED39792CD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E6B97E-51F7-4024-9B4A-B8E8401C5E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ACEE75-BFD5-4FFC-84DD-E2744EF9388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772448-B791-4AD6-9755-E486998A92A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1C489B-A698-4EA2-8186-13C209726FB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24D7B-1573-4E57-A9F6-EA0287E170A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8DF17B-A9E2-4ECB-A01D-796FE4999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DE3B75-29B2-4290-87E3-EAC646388D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4F339-3D15-425C-B624-2CB3797226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2428E2-2202-475F-9DEC-88EDBA33902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5D777-DF31-4AA0-B94E-A2003A78A0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FFDF12-443B-4CB8-9A2E-72C18F4CCF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77600" y="4776480"/>
            <a:ext cx="621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A2ED-1172-4D52-85E3-2E970C0A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8E77-E14E-4721-AD95-06610077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9C97E7-2C75-4BCF-826E-150B7B5AC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1CA68-0E43-4B41-9A13-5AB945E5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FECC4-0E4E-4A32-AF91-715B2B211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0539E-85DD-4132-AB3E-081C0E23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C24D0-EB63-43F7-977D-7587CAD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F4FAD-BD19-4642-8591-AD7EA8D9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AB01A7-96E7-4346-8AE7-89569B765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5939F5-5368-485F-A42D-D6EAA39AD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BE2D3C-782D-476C-BE90-7BD3C3A08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6414-B930-477D-8943-29D84F4C3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9302-C897-46CA-BF8A-60B249142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E67C-E863-4238-B748-407A5B1F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EC26-623B-4544-86D6-A68C8EFC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9146E-86D6-47F1-9345-7DE90DF4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DCEE-3FE8-4591-A524-A2899A526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CDB1-151C-4751-8039-5A39A10E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448B-8A8A-4809-B3B8-4E2F5DD7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EBADC-4EDA-49A0-A702-010B159B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B404-1F82-4D7B-9D39-EAA2B802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DCB29-C39F-4A65-BB31-36521B0E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D5376-DF97-4119-89DC-E07D45C7F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BD4C-260B-4972-9D93-B0793CD3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412F-670E-4DAE-A9D6-F2198EE02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1F6C-8390-463E-BFCC-8248AC793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94E5-F36E-4638-B849-89704741B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E17BA-EB06-49B8-A70C-51E06169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1375-E289-4CC9-94BD-AA7824B60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6056C-E9E1-4AB2-92EB-3A5654FC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0F77C8-EACF-495D-8861-CFE04361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AAB4-98D7-4471-8E42-1FA0D60C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F9929-FCCB-4D3F-9B76-DDD36FB0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95066B-88C1-4B65-A88D-436997B32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9C57B-B9CE-4E0A-A200-B4EDF18F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14485-7CCE-4B4D-BDE9-56A7E997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25653A-5534-434D-8AB1-40106EB10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ADAB84-3BD3-4C67-98A8-B5039528C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3A178-2588-4184-AAB7-A96FBADFC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3CD960-025E-4586-8DA6-007FDE583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5DB2-4ABF-4DEB-A737-BAD867582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E7CFC-1EAE-426C-8317-0034774FB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7874-2D91-4C3E-95C0-A9CD7B9AC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98AF-AA06-4DB8-A8BD-0E5CA66F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4BA78-9D74-4182-85BF-0D9B1C76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3C55A-8A0C-4247-B899-EF0A211E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3E3D2-E742-4732-80E0-49EA7313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6C4218-49BA-489F-8B8B-3A7B6422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E96DF1-77C9-4381-B8FD-1DCFE6D3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D7E9-A1E3-4B15-9841-11E4C5A93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5BD85-B179-4422-B09B-12E6FB8DB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F41FF-E247-445B-8346-9DD5A9F3D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CF0F5-19A2-467E-A234-EA714EAD7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BD8E-F8B1-4C0A-AA44-24FC84E4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5512D-9928-47DC-A8F3-73C9616A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21628-62E2-40E6-8959-F5D045DF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54CFEA-A6F9-4470-8979-40ADDE2D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AFF9A7-186D-48DC-8007-44C39CD4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15364E-2C32-4962-ABC1-766D5BB19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63C89-B5A2-47CC-8D66-EF89582EF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684E84-D76A-4117-B04E-DAF84B47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10A92-B434-4A0D-A96B-FDE8A3776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9248C0-DECA-4E14-8E36-45AA6B7F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190C5-C12E-4323-AE3C-50ADCCA1E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48012-83FC-42CF-A617-658E8C4E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7C149-C249-4DAA-ADFB-1A6FC04F7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32F3D-6F3B-4490-ACDA-4073ECC20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BDCB4-4C9D-42E0-B5FE-3CE5CA50A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61823-9E67-4FA1-8D46-32C1E01F3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E9346-9591-4FAD-B965-ED11986A9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A608C7-ADF6-4489-8722-15DC06512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2FA78-BF18-45A7-BE8B-A5639F1B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40FB5-35DD-4853-A762-BADA87B95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AE6D44-9315-4C47-8D6A-2D8D211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66A82-0D39-4954-B403-6A317D66C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0A3B-1BBB-4C60-87C1-1B675B07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1834F-F184-4711-8A55-3FF08648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7F86E5-B91B-41E6-AE90-704F295D7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C09A-0041-40FD-AD46-0C245D43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7EBB80-6E05-4BB7-B299-5F4E8AB8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1FFD6-CAC4-4DA0-9B50-0FAB992B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6A70-E2BD-4D98-84D2-A16E9C85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591B64-16FC-4D44-9D65-1EA397266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64B71B-873F-4EF6-9930-2857EEBB7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519213-C12D-49EC-B2B7-334A089E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98A7-87A9-41DE-9BA5-0B74C00D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9742-802D-4DD7-9763-D5DEF14D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FB7928-54D2-417C-BEB7-8ECA957E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A60417-60E7-4223-A530-E477ABE2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9F9CCE-8B62-42AA-893C-31820123E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E27DF-CAA6-4B47-AE01-256564CA7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0DCBA1-7801-4021-B081-1FA460E1F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C51014-CB42-4632-B257-E3CD612B4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1669D5-5DF0-4CD4-B60D-E86B1286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F61C35-A26C-46F2-90E0-69112813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BF6A7-DC2B-4D3E-8B59-704E04978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AD51C-7090-46FF-9368-BE9F23D2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5EFE-BEC7-4F7A-AF3D-7F7C8333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3280" y="168120"/>
            <a:ext cx="907416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D0FAEA-6775-4FF3-9C99-A9E0A1D5D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17ADCE-C229-4ACF-ABF7-8F57B2D5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8B5F8E-6218-4AD7-ADD1-F7518863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9EECF-8B38-4719-99AB-AFC9EF5D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3280" y="4620960"/>
            <a:ext cx="90741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F2BC9-0F13-4AEC-83D6-ACFC88F2A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53040" y="195732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328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5153040" y="4620960"/>
            <a:ext cx="442800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32D94-96E8-44B8-9951-AE92A4C7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57156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639840" y="195732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328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57156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639840" y="4620960"/>
            <a:ext cx="2921760" cy="243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69C3AF-7E17-42C4-A693-60FFAB826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616B93-A9AD-438C-877F-96540A315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03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A2011D-6479-43EF-AABA-F2A18AE70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FB5CF-6E28-4632-9756-9EEC2DA34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4CCFBD0-3437-4077-962B-C071CB9EA670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10080720" cy="5661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6530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6CEB3C-1551-418B-A3E3-A3DC92B3F5C6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22499-B482-49F6-B1B1-768E8A46D0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0080720" cy="2868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868480"/>
            <a:ext cx="10080720" cy="5076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360" bIns="36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5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  <a:p>
            <a:pPr lvl="6" marL="1571760" indent="-20016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5C9A56-04F7-4F95-96D0-FC26ED256399}" type="datetime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0C0BE-0A19-46CB-8410-07B238CF0CA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432E6-8E44-47A3-B431-3CD3B184A407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3147840" y="0"/>
            <a:ext cx="51120" cy="16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11320" y="7139160"/>
            <a:ext cx="6072480" cy="3031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FFA912-C882-4AB4-B7A9-4429DA913E3B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3147840" y="0"/>
            <a:ext cx="5112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81080" y="1290240"/>
            <a:ext cx="2782800" cy="22068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346560" y="1290240"/>
            <a:ext cx="5726160" cy="22068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9192960" y="1290240"/>
            <a:ext cx="809640" cy="220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A305B3-509C-4DB6-A1EF-DA8B380265D1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7275600" y="0"/>
            <a:ext cx="48960" cy="7559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327800" y="0"/>
            <a:ext cx="2773440" cy="7559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502920" y="7139160"/>
            <a:ext cx="2352600" cy="3031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911320" y="7029360"/>
            <a:ext cx="4229280" cy="40320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9043560" y="7139160"/>
            <a:ext cx="809640" cy="30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42FC66-EAE8-4040-AFBC-27D38F708214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EDFDC6-459D-430D-BF9D-290BBB96A54D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9"/>
          <p:cNvSpPr/>
          <p:nvPr/>
        </p:nvSpPr>
        <p:spPr>
          <a:xfrm>
            <a:off x="0" y="1582560"/>
            <a:ext cx="10080720" cy="511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800" rIns="100800" tIns="720" bIns="72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6"/>
          <p:cNvSpPr/>
          <p:nvPr/>
        </p:nvSpPr>
        <p:spPr>
          <a:xfrm>
            <a:off x="0" y="0"/>
            <a:ext cx="10080720" cy="1581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3280" y="168120"/>
            <a:ext cx="9074160" cy="137952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503280" y="1957320"/>
            <a:ext cx="9074160" cy="50990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3" marL="1339920" indent="-20016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4" marL="1571760" indent="-20016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5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6" marL="1571760" indent="-20016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25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12096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26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50400" rIns="50400" tIns="5040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27"/>
          </p:nvPr>
        </p:nvSpPr>
        <p:spPr>
          <a:xfrm>
            <a:off x="722628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3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5D97E4-6ECB-48E7-9B99-93466A6FFA9E}" type="slidenum">
              <a:rPr b="0" lang="en-GB" sz="13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0" y="1528560"/>
            <a:ext cx="9072720" cy="58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Support for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Cloud Resolving Model Simul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VACET All-Hands Meet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2160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IEEE Vis 200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502920" y="1768320"/>
            <a:ext cx="907236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urther work w/ Cray on optimizing mpi-io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Finalize data mode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ell/corner/edge/face centered data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lidate NetCDF-4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enhancement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aralleliz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ncorporate morton-order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502920" y="1768320"/>
            <a:ext cx="9072360" cy="56109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olorado State Univ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Dave Randall, Ross Heik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N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ren Schuchardt, Bruce Palmer, Annette Koonz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BNL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Janet Jacobsen, Wes Bethel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ark Howis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Katie Antypas, John Shalf, Shane Can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team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02920" y="1767960"/>
            <a:ext cx="9072360" cy="504684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SciDAC/INCIT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I: Dave Randall (CSU)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008 INCITE award at NERSC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ulti-institution collabor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CSU researchers developing the climate simulation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PNNL researchers developing the Data API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VACET researchers helping w/ Data model, Parallel IO and Vi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502920" y="1767960"/>
            <a:ext cx="9109080" cy="5888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Global atmospheric circulation mod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non-hydrostatic dynamical cor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loud microphysics, turbulence, radiatio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60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coupled to land-surface model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3km grid-cell spac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runs on 20K+ franklin cor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Planned 1:1 simulated:wall_clock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Data throughput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1TB/h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2GB/s aggregate IO performance requireme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~50M cells*100 layers, 16GB/variable, 50 variab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Rectangle 1" descr=""/>
          <p:cNvPicPr/>
          <p:nvPr/>
        </p:nvPicPr>
        <p:blipFill>
          <a:blip r:embed="rId1"/>
          <a:stretch/>
        </p:blipFill>
        <p:spPr>
          <a:xfrm>
            <a:off x="463680" y="652320"/>
            <a:ext cx="9082080" cy="7858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502920" y="1767960"/>
            <a:ext cx="9072360" cy="2819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dentify a data model for GCRM cod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Enable simulation code to do efficient parallel IO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ualization and Analysis on extremely large icosahedral mesh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502920" y="1767960"/>
            <a:ext cx="9072360" cy="34275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1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st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: NetCDF-3 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metadata conventio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Icosahedral m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esh variables/layout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rbel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ell/corner/edge/face centered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lvl="2" marL="1098720" indent="-250920">
              <a:spcBef>
                <a:spcPts val="649"/>
              </a:spcBef>
              <a:buClr>
                <a:srgbClr val="e66c7d"/>
              </a:buClr>
              <a:buFont typeface="Arial"/>
              <a:buChar char="▪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rbel"/>
              </a:rPr>
              <a:t>satisfy VisIt plugin requirements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2</a:t>
            </a:r>
            <a:r>
              <a:rPr b="0" lang="en-GB" sz="3500" spc="-1" strike="noStrike" baseline="33000">
                <a:solidFill>
                  <a:srgbClr val="000000"/>
                </a:solidFill>
                <a:latin typeface="Corbel"/>
              </a:rPr>
              <a:t>nd</a:t>
            </a: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 Phase NetCDF-4 (HDF5)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502920" y="1767960"/>
            <a:ext cx="9072360" cy="56350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Need sustained 2+GB/s collective IO to single shared fil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franklin performance ~0.3-1.2 GB/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Large number of IOR tests examining factor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IO pattern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lustre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blocking/transfer size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, #OSTs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502920" y="1768320"/>
            <a:ext cx="9072360" cy="567216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Issues identified with Cray's mpich implementation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N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ot sufficiently aware of OST striping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Modifying HDF5 to align/pad to OST stripes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82760" indent="-3524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Current best strategy is to use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2-phase IO (use aggregator nodes)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#IO nodes = #OSTs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rbel"/>
              </a:rPr>
              <a:t>Match file transfer size to stripe width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  <a:p>
            <a:pPr lvl="1" marL="804960" indent="-301680">
              <a:spcBef>
                <a:spcPts val="774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Simulate ‘file-per-process’ IO pattern 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Rectangle 1" descr=""/>
          <p:cNvPicPr/>
          <p:nvPr/>
        </p:nvPicPr>
        <p:blipFill>
          <a:blip r:embed="rId1"/>
          <a:stretch/>
        </p:blipFill>
        <p:spPr>
          <a:xfrm>
            <a:off x="500040" y="291960"/>
            <a:ext cx="9082080" cy="128124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502920" y="1768320"/>
            <a:ext cx="9072360" cy="392328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 fontScale="99000"/>
          </a:bodyPr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VisIt plugin developed to load icosahedral NetCDF mesh data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Preliminary custom visualizations rendered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marL="477720" indent="-3488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Corbel"/>
              </a:rPr>
              <a:t>Online tutorials and startup instructions published at:</a:t>
            </a: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  <a:p>
            <a:pPr lvl="1" marL="796680" indent="-298440">
              <a:spcBef>
                <a:spcPts val="774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GB" sz="3100" spc="-1" strike="noStrike">
                <a:solidFill>
                  <a:srgbClr val="000000"/>
                </a:solidFill>
                <a:latin typeface="Corbel"/>
              </a:rPr>
              <a:t>http://vis.lbl.gov/~prabhat/Incite19/</a:t>
            </a:r>
            <a:endParaRPr b="0" lang="en-US" sz="31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100800" rIns="50400" tIns="50400" bIns="504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60480" rIns="100800" tIns="100800" bIns="504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4" name="Picture 3" descr=""/>
          <p:cNvPicPr/>
          <p:nvPr/>
        </p:nvPicPr>
        <p:blipFill>
          <a:blip r:embed="rId1"/>
          <a:stretch/>
        </p:blipFill>
        <p:spPr>
          <a:xfrm>
            <a:off x="1517760" y="0"/>
            <a:ext cx="739908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rabhat</cp:lastModifiedBy>
  <dcterms:modified xsi:type="dcterms:W3CDTF">2008-10-17T18:33:11Z</dcterms:modified>
  <cp:revision>12</cp:revision>
  <dc:subject/>
  <dc:title>Slide 1</dc:title>
</cp:coreProperties>
</file>